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F31D-4532-4D7B-BD25-C76598491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28E0-96FA-420C-AFB6-A7ED1A0DB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4AC2-5DBC-46F4-8F7B-9A4B6F822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E05A-C5CB-4DB6-869E-69D82029A6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E148-3766-42B9-9E00-FF1013B51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FF5C8-D790-4430-8957-8D5F8340E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4332F-AC3C-4F8D-AC70-1099C555B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EBEA-28B8-48A2-A5F9-68787CD56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74A4-B43E-4C1F-8D5C-2F72E83A2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A87E-F860-4481-847C-5ADD41ABF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6595-5CA3-4D4B-A759-98E7CC456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E472-FBA2-4CFD-9558-D27C534A0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3577-D92C-432D-A492-3DCA58736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9FBB-ED27-463B-8956-23F996321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63BD-0D82-4111-A0A0-395B36DF2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4600-F283-40A6-A7A9-D4CD27652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A37C-C4F8-4729-BFFC-15C9750AA8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2057C-CCD8-43E1-8F2C-CC07AAF2A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1AC3-D9D7-4054-8C24-18307D1C4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C8D5-E189-4DC9-94FB-C7791C414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4E1A-9BA7-4B0D-87C3-A97A67E53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4646B-3C6C-4929-A68E-D8ABAE0C5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872E8-299F-4756-9292-D95A8B50C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F500F-7A47-4DA5-B2F3-9C2074A9D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864B3-08BC-436A-A15B-04CF876E4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3C52-1731-4042-ACDF-832492313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0240-6992-4086-A088-F5923FE20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FAB4-CC85-4B6E-A0AE-B93B750B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EE0E-86D4-4DCC-879E-AE8DD6FFF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EE2F2-B483-4D6F-B5CB-EF886B46E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F3A7-D1E9-4638-BC71-8A79C137A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0933F-60A7-4BD1-A597-52F22F58E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1E517-FF48-4C40-ACFF-BBCF62E7C3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7FDC-4D2D-4CCB-AD88-6AC8A87351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flickr.com/photos/mcleod/3819601105/in/pool-858082@N25/" TargetMode="External"/><Relationship Id="rId2" Type="http://schemas.openxmlformats.org/officeDocument/2006/relationships/hyperlink" Target="http://www.flickr.com/photos/36076390@N07/3832270236/in/pool-858082@N25" TargetMode="External"/><Relationship Id="rId3" Type="http://schemas.openxmlformats.org/officeDocument/2006/relationships/hyperlink" Target="http://www.flickr.com/photos/36076390@N07/3832270170/sizes/o/in/pool-858082@N25/" TargetMode="External"/><Relationship Id="rId4" Type="http://schemas.openxmlformats.org/officeDocument/2006/relationships/hyperlink" Target="http://www.flickr.com/photos/bdieu/2655551439/sizes/o/in/pool-858082@N25/" TargetMode="External"/><Relationship Id="rId5" Type="http://schemas.openxmlformats.org/officeDocument/2006/relationships/hyperlink" Target="http://www.flickr.com/photos/mcleod/2919154295/sizes/o/in/pool-858082@N25/" TargetMode="External"/><Relationship Id="rId6" Type="http://schemas.openxmlformats.org/officeDocument/2006/relationships/hyperlink" Target="http://4.bp.blogspot.com/_qD9Y8Ncd3I4/SYxd9Dvlt9I/AAAAAAAAB-I/W84MmsH0Gs0/s400/GlobalEducationDelaney.gif" TargetMode="External"/><Relationship Id="rId7" Type="http://schemas.openxmlformats.org/officeDocument/2006/relationships/hyperlink" Target="http://www.otromundoesposible.net/default.php?mod=magazine_detail&amp;id=512" TargetMode="External"/><Relationship Id="rId8" Type="http://schemas.openxmlformats.org/officeDocument/2006/relationships/hyperlink" Target="http://www.wordle.net/" TargetMode="External"/><Relationship Id="rId9" Type="http://schemas.openxmlformats.org/officeDocument/2006/relationships/hyperlink" Target="http://www.homeofbob.com/literature/esl/icebergCulture.gif" TargetMode="External"/><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2"/>
          <p:cNvSpPr/>
          <p:nvPr/>
        </p:nvSpPr>
        <p:spPr>
          <a:xfrm>
            <a:off x="1295280" y="304920"/>
            <a:ext cx="69343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lobal Competen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Learn "with" the worl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not just "about" the world."</a:t>
            </a:r>
            <a:endParaRPr b="0" lang="en-US" sz="2800" spc="-1" strike="noStrike">
              <a:solidFill>
                <a:srgbClr val="000000"/>
              </a:solidFill>
              <a:latin typeface="Arial"/>
            </a:endParaRPr>
          </a:p>
        </p:txBody>
      </p:sp>
      <p:sp>
        <p:nvSpPr>
          <p:cNvPr id="49" name="Rectangle 3"/>
          <p:cNvSpPr/>
          <p:nvPr/>
        </p:nvSpPr>
        <p:spPr>
          <a:xfrm>
            <a:off x="3200400" y="5486400"/>
            <a:ext cx="312408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Theis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High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sent@gmai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2"/>
          <p:cNvSpPr/>
          <p:nvPr/>
        </p:nvSpPr>
        <p:spPr>
          <a:xfrm>
            <a:off x="609480" y="5181480"/>
            <a:ext cx="7391520" cy="1435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We should think of schools as global enterprises, not local entities, and draw on global resources.</a:t>
            </a:r>
            <a:r>
              <a:rPr b="0" lang="ja-JP"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Yong Zhao-</a:t>
            </a:r>
            <a:r>
              <a:rPr b="0" i="1" lang="en-US" sz="2000" spc="-1" strike="noStrike">
                <a:solidFill>
                  <a:srgbClr val="000000"/>
                </a:solidFill>
                <a:latin typeface="Arial"/>
              </a:rPr>
              <a:t>Catching Up or Leading the Way: American Education in the Age of Glob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Rectangle 2"/>
          <p:cNvSpPr/>
          <p:nvPr/>
        </p:nvSpPr>
        <p:spPr>
          <a:xfrm>
            <a:off x="383040" y="4191120"/>
            <a:ext cx="7871040" cy="18010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he United States is busy closing the achievement gap.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n countries are busy closing the creativity gap.</a:t>
            </a:r>
            <a:r>
              <a:rPr b="0" lang="ja-JP"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ng Zhao-</a:t>
            </a:r>
            <a:r>
              <a:rPr b="0" i="1" lang="en-US" sz="2000" spc="-1" strike="noStrike">
                <a:solidFill>
                  <a:srgbClr val="000000"/>
                </a:solidFill>
                <a:latin typeface="Arial"/>
              </a:rPr>
              <a:t>Catching Up or Leading the Way: American Edu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in the Age of Globaliz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d Steps</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for authentic student work that demonstrates global compet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d by the Council of Chief State School Offic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Competency Matr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4"/>
          <p:cNvSpPr/>
          <p:nvPr/>
        </p:nvSpPr>
        <p:spPr>
          <a:xfrm>
            <a:off x="1367280" y="7086600"/>
            <a:ext cx="6206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teps: http://www.edsteps.org/CCSSO/Home.asp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Resources</a:t>
            </a:r>
            <a:endParaRPr b="0" lang="en-US" sz="4400" spc="-1" strike="noStrike">
              <a:solidFill>
                <a:srgbClr val="000000"/>
              </a:solidFill>
              <a:latin typeface="Arial"/>
            </a:endParaRPr>
          </a:p>
        </p:txBody>
      </p:sp>
      <p:sp>
        <p:nvSpPr>
          <p:cNvPr id="70" name="PlaceHolder 2"/>
          <p:cNvSpPr>
            <a:spLocks noGrp="1"/>
          </p:cNvSpPr>
          <p:nvPr>
            <p:ph/>
          </p:nvPr>
        </p:nvSpPr>
        <p:spPr>
          <a:xfrm>
            <a:off x="685800" y="1752120"/>
            <a:ext cx="77724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ization 10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ia Socie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xfam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Education Collaborative 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merican Forum for Global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Global Competence Webs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 Youth Port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lobal Participation</a:t>
            </a: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RN (International Education and Resource Net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Nomads Group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It Glob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E Program (Science Collaborative Proj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74" name="PlaceHolder 2"/>
          <p:cNvSpPr>
            <a:spLocks noGrp="1"/>
          </p:cNvSpPr>
          <p:nvPr>
            <p:ph/>
          </p:nvPr>
        </p:nvSpPr>
        <p:spPr>
          <a:xfrm>
            <a:off x="533520" y="1981080"/>
            <a:ext cx="8076960" cy="4114800"/>
          </a:xfrm>
          <a:prstGeom prst="rect">
            <a:avLst/>
          </a:prstGeom>
          <a:noFill/>
          <a:ln w="0">
            <a:noFill/>
          </a:ln>
        </p:spPr>
        <p:txBody>
          <a:bodyPr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e preparing our students to meet global challenges?</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influence what happens in our schools when global competency is the topic of discussion?</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implications for profession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76" name="PlaceHolder 2"/>
          <p:cNvSpPr>
            <a:spLocks noGrp="1"/>
          </p:cNvSpPr>
          <p:nvPr>
            <p:ph/>
          </p:nvPr>
        </p:nvSpPr>
        <p:spPr>
          <a:xfrm>
            <a:off x="380880" y="990720"/>
            <a:ext cx="8229600" cy="533376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1"/>
              </a:rPr>
              <a:t>http://www.flickr.com/photos/mcleod/3819601105/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http://www.flickr.com/photos/36076390@N07/3832270236/in/pool-858082@N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3"/>
              </a:rPr>
              <a:t>http://www.flickr.com/photos/36076390@N07/3832270170/sizes/o/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4"/>
              </a:rPr>
              <a:t>http://www.flickr.com/photos/bdieu/2655551439/sizes/o/in/pool-858082@N25/</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5"/>
              </a:rPr>
              <a:t>http://www.flickr.com/photos/mcleod/2919154295/sizes/o/in/pool-858082@N25/</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6"/>
              </a:rPr>
              <a:t>http://4.bp.blogspot.com/_qD9Y8Ncd3I4/SYxd9Dvlt9I/AAAAAAAAB-I/W84MmsH0Gs0/s400/GlobalEducationDelaney.gif</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7"/>
              </a:rPr>
              <a:t>http://www.otromundoesposible.net/default.php?mod=magazine_detail&amp;id=512</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8"/>
              </a:rPr>
              <a:t>http://www.wordle.net/</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9"/>
              </a:rPr>
              <a:t>http://www.homeofbob.com/literature/esl/icebergCulture.gif</a:t>
            </a:r>
            <a:r>
              <a:rPr b="0" lang="en-US" sz="1400" spc="-1" strike="noStrike">
                <a:solidFill>
                  <a:srgbClr val="000000"/>
                </a:solidFill>
                <a:latin typeface="Arial"/>
              </a:rPr>
              <a:t> http://www.flickr.com/photos/foxspain/3219577797/sizes/l/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dobhran.com/images2/kidssrule-2.jpg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techarena.in/files/image/news/global_collaboration.jpg </a:t>
            </a:r>
            <a:endParaRPr b="0" lang="en-US" sz="1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edsteps.org/CCSSO/ManageContent.aspx?system_name=I5nka44NofDD3IY38QBonx+Crwfdw+uF&amp;selected_system_name=DRkDdjiObdU= </a:t>
            </a:r>
            <a:endParaRPr b="0" lang="en-US" sz="16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ni Theisen</a:t>
            </a:r>
            <a:r>
              <a:rPr b="1" lang="ja-JP" sz="4400" spc="-1" strike="noStrike">
                <a:solidFill>
                  <a:srgbClr val="000000"/>
                </a:solidFill>
                <a:latin typeface="Arial"/>
              </a:rPr>
              <a:t>’</a:t>
            </a:r>
            <a:r>
              <a:rPr b="1" lang="en-US" sz="4400" spc="-1" strike="noStrike">
                <a:solidFill>
                  <a:srgbClr val="000000"/>
                </a:solidFill>
                <a:latin typeface="Arial"/>
              </a:rPr>
              <a:t>s  </a:t>
            </a:r>
            <a:br>
              <a:rPr sz="4400"/>
            </a:br>
            <a:r>
              <a:rPr b="1" lang="en-US" sz="4400" spc="-1" strike="noStrike">
                <a:solidFill>
                  <a:srgbClr val="000000"/>
                </a:solidFill>
                <a:latin typeface="Arial"/>
              </a:rPr>
              <a:t>Global Wikispaces</a:t>
            </a:r>
            <a:endParaRPr b="0" lang="en-US" sz="4400" spc="-1" strike="noStrike">
              <a:solidFill>
                <a:srgbClr val="000000"/>
              </a:solidFill>
              <a:latin typeface="Arial"/>
            </a:endParaRPr>
          </a:p>
        </p:txBody>
      </p:sp>
      <p:sp>
        <p:nvSpPr>
          <p:cNvPr id="78" name="PlaceHolder 2"/>
          <p:cNvSpPr>
            <a:spLocks noGrp="1"/>
          </p:cNvSpPr>
          <p:nvPr>
            <p:ph/>
          </p:nvPr>
        </p:nvSpPr>
        <p:spPr>
          <a:xfrm>
            <a:off x="533160" y="1981080"/>
            <a:ext cx="79246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hsfrenchclasses.wikispace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loveland-lareole.wikispaces.com/  (exchange projects with school in France) http://loveland-matamata.wikispaces.com/  (exchange projects with New Zea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Rectangle 4"/>
          <p:cNvSpPr/>
          <p:nvPr/>
        </p:nvSpPr>
        <p:spPr>
          <a:xfrm>
            <a:off x="1785960" y="287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Rectangle 2"/>
          <p:cNvSpPr/>
          <p:nvPr/>
        </p:nvSpPr>
        <p:spPr>
          <a:xfrm>
            <a:off x="1295280" y="304920"/>
            <a:ext cx="693432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Global Competenc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Learn "with" the worl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Handwriting"/>
              </a:rPr>
              <a:t>not just "about" the world."</a:t>
            </a:r>
            <a:endParaRPr b="0" lang="en-US" sz="2800" spc="-1" strike="noStrike">
              <a:solidFill>
                <a:srgbClr val="000000"/>
              </a:solidFill>
              <a:latin typeface="Arial"/>
            </a:endParaRPr>
          </a:p>
        </p:txBody>
      </p:sp>
      <p:sp>
        <p:nvSpPr>
          <p:cNvPr id="80" name="Rectangle 3"/>
          <p:cNvSpPr/>
          <p:nvPr/>
        </p:nvSpPr>
        <p:spPr>
          <a:xfrm>
            <a:off x="2895480" y="5257800"/>
            <a:ext cx="3505320" cy="1280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ni Theise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High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land, C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isent@gmail.co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globalcompetency.wikispaces.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82" name="PlaceHolder 2"/>
          <p:cNvSpPr>
            <a:spLocks noGrp="1"/>
          </p:cNvSpPr>
          <p:nvPr>
            <p:ph/>
          </p:nvPr>
        </p:nvSpPr>
        <p:spPr>
          <a:xfrm>
            <a:off x="533520" y="1981080"/>
            <a:ext cx="8076960" cy="4114800"/>
          </a:xfrm>
          <a:prstGeom prst="rect">
            <a:avLst/>
          </a:prstGeom>
          <a:noFill/>
          <a:ln w="0">
            <a:noFill/>
          </a:ln>
        </p:spPr>
        <p:txBody>
          <a:bodyPr anchor="t">
            <a:normAutofit/>
          </a:bodyPr>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are we preparing our students to meet global challenges?</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do we influence what happens in our schools when global competency is the topic of discussion?</a:t>
            </a:r>
            <a:endParaRPr b="0" lang="en-US" sz="2800" spc="-1" strike="noStrike">
              <a:solidFill>
                <a:srgbClr val="000000"/>
              </a:solidFill>
              <a:latin typeface="Arial"/>
            </a:endParaRPr>
          </a:p>
          <a:p>
            <a:pPr marL="60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the implications for professional develo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Rectangle 2"/>
          <p:cNvSpPr/>
          <p:nvPr/>
        </p:nvSpPr>
        <p:spPr>
          <a:xfrm>
            <a:off x="-2147484240" y="2147484240"/>
            <a:ext cx="214748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t>
            </a:r>
            <a:r>
              <a:rPr b="0" lang="en-US" sz="1600" spc="-1" strike="noStrike">
                <a:solidFill>
                  <a:srgbClr val="000000"/>
                </a:solidFill>
                <a:latin typeface="Arial"/>
              </a:rPr>
              <a:t>Teaching students about the world is not a subject in itself, separate from other content areas, but should be an integral part of all subjects taught. We need to open global gateways and inspire students to explore beyond their national borders.</a:t>
            </a:r>
            <a:r>
              <a:rPr b="0" lang="ja-JP" sz="1600" spc="-1" strike="noStrike">
                <a:solidFill>
                  <a:srgbClr val="000000"/>
                </a:solidFill>
                <a:latin typeface="Arial"/>
              </a:rPr>
              <a:t>”</a:t>
            </a:r>
            <a:r>
              <a:rPr b="0" lang="en-US" sz="1600" spc="-1" strike="noStrike">
                <a:solidFill>
                  <a:srgbClr val="000000"/>
                </a:solidFill>
                <a:latin typeface="Arial"/>
              </a:rPr>
              <a:t> Vivien Stewart, Becoming Citizens of the World, Educational Leadership</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Rectangle 3"/>
          <p:cNvSpPr/>
          <p:nvPr/>
        </p:nvSpPr>
        <p:spPr>
          <a:xfrm>
            <a:off x="419040" y="674640"/>
            <a:ext cx="2705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239760" y="6192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380520" y="304560"/>
            <a:ext cx="8458200" cy="2361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eaching students about the world is not a subject in itself, separate from other content areas, but should be an integral part of all subjects taught. We need to open global gateways and inspire students to explore beyond their national borders.</a:t>
            </a:r>
            <a:r>
              <a:rPr b="0" lang="ja-JP" sz="2400" spc="-1" strike="noStrike">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Vivien Stewart, Becoming Citizens of the World, Educational Leadership</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Rectangle 3"/>
          <p:cNvSpPr/>
          <p:nvPr/>
        </p:nvSpPr>
        <p:spPr>
          <a:xfrm>
            <a:off x="804960" y="46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76212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Global Competencies at the top of the list</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communicate effectively across linguistic and cultural boundari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ee and understand the world from a perspective other then one's ow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understand and appreciate the diversity of societies and culture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Rectangle 2"/>
          <p:cNvSpPr/>
          <p:nvPr/>
        </p:nvSpPr>
        <p:spPr>
          <a:xfrm>
            <a:off x="804960" y="466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762120" y="2282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Essential dimensions of global competence</a:t>
            </a:r>
            <a:r>
              <a:rPr b="0" lang="en-US"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60" name="PlaceHolder 2"/>
          <p:cNvSpPr>
            <a:spLocks noGrp="1"/>
          </p:cNvSpPr>
          <p:nvPr>
            <p:ph/>
          </p:nvPr>
        </p:nvSpPr>
        <p:spPr>
          <a:xfrm>
            <a:off x="533520" y="1752480"/>
            <a:ext cx="8076960" cy="4191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vestigate the world beyond their immediate environmen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recognize their own and others</a:t>
            </a:r>
            <a:r>
              <a:rPr b="0" lang="ja-JP" sz="2800" spc="-1" strike="noStrike">
                <a:solidFill>
                  <a:srgbClr val="000000"/>
                </a:solidFill>
                <a:latin typeface="Arial"/>
              </a:rPr>
              <a:t>’</a:t>
            </a:r>
            <a:r>
              <a:rPr b="0" lang="en-US" sz="2800" spc="-1" strike="noStrike">
                <a:solidFill>
                  <a:srgbClr val="000000"/>
                </a:solidFill>
                <a:latin typeface="Arial"/>
              </a:rPr>
              <a:t> perspectiv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mmunicate their ideas effectively with diverse audience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ranslate their ideas and findings into appropriate actions to improve conditions.</a:t>
            </a:r>
            <a:endParaRPr b="0" lang="en-US" sz="2800" spc="-1" strike="noStrike">
              <a:solidFill>
                <a:srgbClr val="000000"/>
              </a:solidFill>
              <a:latin typeface="Arial"/>
            </a:endParaRPr>
          </a:p>
        </p:txBody>
      </p:sp>
      <p:sp>
        <p:nvSpPr>
          <p:cNvPr id="61" name="Rectangle 5"/>
          <p:cNvSpPr/>
          <p:nvPr/>
        </p:nvSpPr>
        <p:spPr>
          <a:xfrm>
            <a:off x="1447920" y="5867280"/>
            <a:ext cx="64008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Steps: http://www.edsteps.org/CCSSO/Home.asp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Rectangle 4"/>
          <p:cNvSpPr/>
          <p:nvPr/>
        </p:nvSpPr>
        <p:spPr>
          <a:xfrm>
            <a:off x="2585880" y="1474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3" name="Picture 10" descr="Picture 1"/>
          <p:cNvPicPr/>
          <p:nvPr/>
        </p:nvPicPr>
        <p:blipFill>
          <a:blip r:embed="rId1"/>
          <a:stretch/>
        </p:blipFill>
        <p:spPr>
          <a:xfrm>
            <a:off x="3048120" y="304920"/>
            <a:ext cx="302400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5:00:28Z</dcterms:created>
  <dc:creator>Toni Theisen</dc:creator>
  <dc:description/>
  <dc:language>en-US</dc:language>
  <cp:lastModifiedBy>Joanne Rowe</cp:lastModifiedBy>
  <dcterms:modified xsi:type="dcterms:W3CDTF">2012-05-09T17:46:33Z</dcterms:modified>
  <cp:revision>76</cp:revision>
  <dc:subject/>
  <dc:title>PowerPoint Presentation</dc:title>
</cp:coreProperties>
</file>